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jpeg" ContentType="image/jpeg"/>
  <Override PartName="/ppt/media/image23.png" ContentType="image/png"/>
  <Override PartName="/ppt/media/image22.wmf" ContentType="image/x-wmf"/>
  <Override PartName="/ppt/media/image20.png" ContentType="image/png"/>
  <Override PartName="/ppt/media/image18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31.png" ContentType="image/png"/>
  <Override PartName="/ppt/media/image30.png" ContentType="image/png"/>
  <Override PartName="/ppt/media/image35.jpeg" ContentType="image/jpeg"/>
  <Override PartName="/ppt/media/image28.png" ContentType="image/png"/>
  <Override PartName="/ppt/media/image8.jpeg" ContentType="image/jpeg"/>
  <Override PartName="/ppt/media/image38.png" ContentType="image/png"/>
  <Override PartName="/ppt/media/image14.png" ContentType="image/png"/>
  <Override PartName="/ppt/media/image9.wmf" ContentType="image/x-wmf"/>
  <Override PartName="/ppt/media/image42.jpeg" ContentType="image/jpeg"/>
  <Override PartName="/ppt/media/image33.jpeg" ContentType="image/jpeg"/>
  <Override PartName="/ppt/media/image39.png" ContentType="image/png"/>
  <Override PartName="/ppt/media/image40.jpeg" ContentType="image/jpeg"/>
  <Override PartName="/ppt/media/image44.jpeg" ContentType="image/jpeg"/>
  <Override PartName="/ppt/media/image12.wmf" ContentType="image/x-wmf"/>
  <Override PartName="/ppt/media/image13.png" ContentType="image/pn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5.wmf" ContentType="image/x-wmf"/>
  <Override PartName="/ppt/media/image41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82F8-4BB9-43FE-8657-CF8F4C156E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A8F2-7DE7-4885-B3CB-AA708A24AB1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9519-1B82-410D-87FF-2D901C67297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3E71-D627-4923-BD84-F75D4441B9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B50A-E7C5-460C-ACA5-B34352523C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1623-BBDB-4BBD-8340-D2052EEAE05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B728-5C5B-46E3-ADE3-9135278931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CE31-2B6F-4A0E-8C01-EC72BB8240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CAB1-8799-43BC-8B58-C9F993AA4A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746D-BBD4-4E9E-9AA3-54440B51F2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1877-2006-4D9A-BCBA-537D4E0ED1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13AF-9F08-43AB-B8AD-530E58AEC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C8DD-92BC-42BA-B543-CF0BE9C345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3A3B-BCF5-410E-9AFF-4D111BD84D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1CC2-34BD-4F43-B9C4-2309A98CDF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186F-FC90-411B-8D9E-9EA02E0DB3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هدف اصل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health</a:t>
            </a:r>
            <a:r>
              <a:rPr b="0" lang="fa-IR" sz="1200" spc="-1" strike="noStrike">
                <a:solidFill>
                  <a:srgbClr val="000000"/>
                </a:solidFill>
                <a:latin typeface="Arial"/>
              </a:rPr>
              <a:t> پیشگیری اولیه و ثانویه است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3326-2E00-4B8D-9191-CF423BD01DF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733A-64AF-4090-B5D9-E9B9013A08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809F-9A26-4AD2-A929-2E32A44509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FC6D-ACF2-41AC-BE04-86563EC198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8C9A-E54A-4609-8FBE-2FD6BFE87B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4C22-3B22-4F0C-B51E-8BDB1DD636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1389-DE98-489A-B2B6-AD426ED78A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8D2B-B45C-4CA8-8237-E061B0BC37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C633-5A38-4218-A5BF-CC87E10986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8690-BB44-4A49-B04C-E4C08E0A86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EFDF-C1D9-436F-879A-8BD12B6E60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3226-95CF-4C84-B76C-C7226BA98F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DCBF-C063-4BC7-A4A9-101F16675C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1F73-B33C-4185-B9EA-A9D8B17652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0373-6887-4A4E-A97A-94D285126D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2AE2-FFCA-4BA7-AE4A-1FCA566D80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BEF4-BCD5-43A9-B274-ABCA8971DE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28AB-4C03-4AA0-ACF5-FC13F373BB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3D08-DC55-4CDC-B7E0-293A3B5B9E2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/2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7F35-4877-4869-8436-745B325A523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BC4-AF6C-457A-A751-34C4EB5F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16F-8BD0-4AB0-950B-747C4D02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39C-1EC3-4AB3-BAE9-8A679604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9FE-8BE0-4A1A-8F04-C86E9103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D023-8434-4B68-B300-AFC85660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EBA-DAD1-4BA3-BA2D-13293749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D37C-D387-404E-9268-B1F648FD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B12E-03B0-46DC-BA91-C2419C92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AECB-0F47-4094-86D2-B295187A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9BE8-0D2D-485C-BEC9-7856652F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A037-7C87-4279-8F90-A0188B57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3D8-EBA4-4947-890D-E5D62114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BC58-0B9F-434C-8EB9-5062834F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05E9-9ED8-45DD-A196-02A84A86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8F6B-D33D-4F14-9D8A-94DD72B9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E686-1049-4E38-AA83-422A371F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863F-E5B1-41CC-96A5-14053A5D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2E59-CE3E-4F45-AAC6-4F210BA5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1EA48-5D60-46F8-B290-3F67BB67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E31A-1D7C-4DE6-B9C1-27FE9009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1AA9-1810-40F7-8E57-22B7D4EC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0C8B-0716-4B8F-9754-5D813761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259-E1FA-4D86-B53A-D7E51F05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DF5E-860B-4EAA-95F9-337F5561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10871-D739-4BDD-A879-0007E4E3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967C-2002-4FD7-B967-5D41C0D4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A26FD-7556-4B84-8974-3787DA0C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F29D-00E9-48A4-AF2C-C9BFCD6A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B361B-3EF8-4B38-BBE4-612A45B3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CE7E8-5ED8-430A-9B07-1E9AED0E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2B03-138B-4948-8BDB-8F1850C7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DE145-BC2C-4B36-80C2-2A466776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666F7-7FF3-41AD-997D-44379D69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12E-92D3-4D1A-8755-8DB06141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40F87-0D76-4222-8D68-45774908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4B6D-92C9-409B-848F-4F932089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D81EB-0C32-470B-A6C1-35E396E4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65D6C-C8A1-473B-B892-C2BE5AD9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C894E-860B-4E00-A809-99B7FE39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4CCBE-39B4-4693-AB6C-346301E1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C2B97-B998-40CE-9D5C-7B8B280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9ACC1-0661-4BDC-817C-9DC859DA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861AA-CFB8-4317-8721-33CA55A1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5AEB-AB3F-4A3C-917B-8625B656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22C-30C8-482A-ADF9-89F2BC65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8B2-A48F-419D-B300-504E7FAC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75C-B2C6-457F-A12C-45D03D08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A88-C65B-41C6-97AA-50EDD752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D2E1-917C-487B-86AD-BDF20283507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2592-04F6-41EB-B8DF-2D05255018C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B082-7530-47BA-B84B-0EE19A4DA8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A798-542B-47BF-B0D1-FF50D4D65F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5.wmf"/><Relationship Id="rId5" Type="http://schemas.openxmlformats.org/officeDocument/2006/relationships/image" Target="../media/image26.jpeg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28.xml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" Target="slide28.xml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hyperlink" Target="http://images.google.com/imgres?imgurl=http://img.slate.com/media/1/123125/122981/2111757/2118667/02_Custom-Plugs_tn.jpg&amp;imgrefurl=http://www.slate.com/id/2118800/&amp;h=150&amp;w=205&amp;sz=6&amp;hl=en&amp;start=3&amp;tbnid=O3tLQE_O3zbjwM:&amp;tbnh=77&amp;tbnw=105&amp;prev=/images%3Fq%3D%2522ear%2Bplug%2522%26svnum%3D10%26hl%3Den%26lr%3D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ffice365.co.uk/im/pim/134049.jpg&amp;imgrefurl=http://www.office365.co.uk/Safety-Security/134049-3M-Premium-Ear.htm&amp;h=300&amp;w=250&amp;sz=22&amp;hl=en&amp;start=60&amp;tbnid=bWAGtQ4YuJreVM:&amp;tbnh=116&amp;tbnw=97&amp;prev=/images%3Fq%3D%2522ear%2Bmuff%2522%26start%3D40%26ndsp%3D20%26svnum%3D10%26hl%3Den%26lr%3D%26sa%3DN" TargetMode="External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4952880" cy="3048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AB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B Nazanin"/>
              </a:rPr>
              <a:t>1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4"/>
          <p:cNvSpPr txBox="1"/>
          <p:nvPr/>
        </p:nvSpPr>
        <p:spPr>
          <a:xfrm>
            <a:off x="2057400" y="685800"/>
            <a:ext cx="51814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PINAL RADIOGRAM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Picture 5" descr="01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معاینات دوره ا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457200" y="2131920"/>
            <a:ext cx="8229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5331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urn to Work Examination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(RTW Exam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7960" y="2361960"/>
            <a:ext cx="82296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absence for a serious ill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Physical capac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job de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it examin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tructures of exit examination is the same as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periodic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xit examination should be based on </a:t>
            </a:r>
            <a:r>
              <a:rPr b="0" lang="en-US" sz="3200" spc="-1" strike="noStrike">
                <a:solidFill>
                  <a:srgbClr val="33ccff"/>
                </a:solidFill>
                <a:latin typeface="Times New Roman"/>
                <a:ea typeface="Times New Roman"/>
              </a:rPr>
              <a:t>target organ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r substances specif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assification of Sick Employ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Occupational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-related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induc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6d1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Work-aggravated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ng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orkplace-Disease Inte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838080" y="2362320"/>
            <a:ext cx="27432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6095880" y="2362320"/>
            <a:ext cx="2667240" cy="112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Occupational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6"/>
          <p:cNvSpPr/>
          <p:nvPr/>
        </p:nvSpPr>
        <p:spPr>
          <a:xfrm>
            <a:off x="6086520" y="41148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Various Pre-exi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non-occupational dis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7"/>
          <p:cNvSpPr/>
          <p:nvPr/>
        </p:nvSpPr>
        <p:spPr>
          <a:xfrm>
            <a:off x="914400" y="41148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orkplace haz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3581280" y="28954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581280" y="4724280"/>
            <a:ext cx="2514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12920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ind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3962520" y="41958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n aggrav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y diagnosis of occupational disease is importa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250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diagn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priate and effective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workplace inter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coworkers ( disease clus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o-legal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otential course of a disease &amp; the opportunities for</a:t>
            </a:r>
            <a:br>
              <a:rPr sz="24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1"/>
          <p:cNvSpPr/>
          <p:nvPr/>
        </p:nvSpPr>
        <p:spPr>
          <a:xfrm>
            <a:off x="250920" y="4076640"/>
            <a:ext cx="165708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2"/>
          <p:cNvSpPr/>
          <p:nvPr/>
        </p:nvSpPr>
        <p:spPr>
          <a:xfrm>
            <a:off x="2700360" y="4076640"/>
            <a:ext cx="172872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3"/>
          <p:cNvSpPr/>
          <p:nvPr/>
        </p:nvSpPr>
        <p:spPr>
          <a:xfrm>
            <a:off x="5076720" y="4076640"/>
            <a:ext cx="158616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tomat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34"/>
          <p:cNvSpPr/>
          <p:nvPr/>
        </p:nvSpPr>
        <p:spPr>
          <a:xfrm>
            <a:off x="7308720" y="4076640"/>
            <a:ext cx="1657440" cy="1297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ica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41"/>
          <p:cNvSpPr/>
          <p:nvPr/>
        </p:nvSpPr>
        <p:spPr>
          <a:xfrm>
            <a:off x="2050920" y="4508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42"/>
          <p:cNvSpPr/>
          <p:nvPr/>
        </p:nvSpPr>
        <p:spPr>
          <a:xfrm>
            <a:off x="4500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43"/>
          <p:cNvSpPr/>
          <p:nvPr/>
        </p:nvSpPr>
        <p:spPr>
          <a:xfrm>
            <a:off x="6732720" y="450864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44"/>
          <p:cNvSpPr/>
          <p:nvPr/>
        </p:nvSpPr>
        <p:spPr>
          <a:xfrm>
            <a:off x="20509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45"/>
          <p:cNvSpPr/>
          <p:nvPr/>
        </p:nvSpPr>
        <p:spPr>
          <a:xfrm>
            <a:off x="6732720" y="508464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46"/>
          <p:cNvSpPr/>
          <p:nvPr/>
        </p:nvSpPr>
        <p:spPr>
          <a:xfrm>
            <a:off x="4500720" y="5084640"/>
            <a:ext cx="502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2050920" y="57340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4427640" y="573408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6443640" y="5661000"/>
            <a:ext cx="107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$$$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1547640" y="2852640"/>
            <a:ext cx="151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m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924360" y="2852640"/>
            <a:ext cx="180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6156360" y="2852640"/>
            <a:ext cx="172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tia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4716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694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5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ION OF WORK RELATED MUSCULOSKELETAL DISORDER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این بیماریها معمولا صدمات حادی نبوده و در طی هفته ها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ماهها و سالها مواجهه با وظایفی که نیاز به حرکات سریع و تکراری همراه با نیروی زیاد دارند ایجاد می شو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در گذشته برای این گروه از بیماریها از اصطلاحات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SI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D</a:t>
            </a: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 استفاده میش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PREVENTION OF OCCUPATIONAL DISEA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:Morteza davoodi  M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3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ccupational Physical Stressors (Job Risk Fact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kward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ct 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b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pet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repeated movements every few seco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ng, packa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4" descr="9"/>
          <p:cNvPicPr/>
          <p:nvPr/>
        </p:nvPicPr>
        <p:blipFill>
          <a:blip r:embed="rId3"/>
          <a:stretch/>
        </p:blipFill>
        <p:spPr>
          <a:xfrm>
            <a:off x="2484360" y="364500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3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1008360" cy="9352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f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load carrying, hand tool work, dentistry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092240" cy="11304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brewery2_6"/>
          <p:cNvPicPr/>
          <p:nvPr/>
        </p:nvPicPr>
        <p:blipFill>
          <a:blip r:embed="rId7"/>
          <a:stretch/>
        </p:blipFill>
        <p:spPr>
          <a:xfrm>
            <a:off x="3995640" y="1628640"/>
            <a:ext cx="3276720" cy="1905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er abduction, flexion, 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electrician, plumber, painter, car assembly line, telephone operator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348000" y="3429000"/>
            <a:ext cx="1360440" cy="1368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abinet8_7"/>
          <p:cNvPicPr/>
          <p:nvPr/>
        </p:nvPicPr>
        <p:blipFill>
          <a:blip r:embed="rId3"/>
          <a:stretch/>
        </p:blipFill>
        <p:spPr>
          <a:xfrm>
            <a:off x="1042920" y="2997360"/>
            <a:ext cx="1430280" cy="1981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abinet11_10"/>
          <p:cNvPicPr/>
          <p:nvPr/>
        </p:nvPicPr>
        <p:blipFill>
          <a:blip r:embed="rId4"/>
          <a:stretch/>
        </p:blipFill>
        <p:spPr>
          <a:xfrm>
            <a:off x="5724360" y="2997360"/>
            <a:ext cx="17305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k flexion, extension, 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typists, writers, copy editors, precis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1908000" y="3429000"/>
            <a:ext cx="1368720" cy="10796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notebook%20only"/>
          <p:cNvPicPr/>
          <p:nvPr/>
        </p:nvPicPr>
        <p:blipFill>
          <a:blip r:embed="rId3"/>
          <a:stretch/>
        </p:blipFill>
        <p:spPr>
          <a:xfrm>
            <a:off x="4356000" y="2637000"/>
            <a:ext cx="26672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nk bend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i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farmers, co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ers, manufacturing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4" descr="cabinet10_9"/>
          <p:cNvPicPr/>
          <p:nvPr/>
        </p:nvPicPr>
        <p:blipFill>
          <a:blip r:embed="rId2"/>
          <a:stretch/>
        </p:blipFill>
        <p:spPr>
          <a:xfrm>
            <a:off x="5292720" y="2133720"/>
            <a:ext cx="203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ua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e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1657440" cy="28810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"/>
          <p:cNvPicPr/>
          <p:nvPr/>
        </p:nvPicPr>
        <p:blipFill>
          <a:blip r:embed="rId4"/>
          <a:stretch/>
        </p:blipFill>
        <p:spPr>
          <a:xfrm>
            <a:off x="1619280" y="4508640"/>
            <a:ext cx="180036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st extension, flexion, ulnar de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typists, repairmen, VDT users, tailors, packaging industry, butchers, textile workers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458720" cy="961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"/>
          <p:cNvPicPr/>
          <p:nvPr/>
        </p:nvPicPr>
        <p:blipFill>
          <a:blip r:embed="rId3"/>
          <a:stretch/>
        </p:blipFill>
        <p:spPr>
          <a:xfrm>
            <a:off x="1258920" y="2421000"/>
            <a:ext cx="1434960" cy="101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"/>
          <p:cNvPicPr/>
          <p:nvPr/>
        </p:nvPicPr>
        <p:blipFill>
          <a:blip r:embed="rId4"/>
          <a:stretch/>
        </p:blipFill>
        <p:spPr>
          <a:xfrm>
            <a:off x="3708360" y="2492280"/>
            <a:ext cx="1511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84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c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4427640" y="1628640"/>
          <a:ext cx="4066920" cy="50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066920" cy="50133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wkward postur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sitting and static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: VDT users, clerical work, textile workers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4" descr="Figure 6: Stresses because of bifocal lenses"/>
          <p:cNvPicPr/>
          <p:nvPr/>
        </p:nvPicPr>
        <p:blipFill>
          <a:blip r:embed="rId2"/>
          <a:stretch/>
        </p:blipFill>
        <p:spPr>
          <a:xfrm>
            <a:off x="2916360" y="3933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SmartArt Placeholder 1025"/>
          <p:cNvGrpSpPr/>
          <p:nvPr/>
        </p:nvGrpSpPr>
        <p:grpSpPr>
          <a:xfrm>
            <a:off x="0" y="990720"/>
            <a:ext cx="9143640" cy="4462920"/>
            <a:chOff x="0" y="990720"/>
            <a:chExt cx="9143640" cy="4462920"/>
          </a:xfrm>
        </p:grpSpPr>
        <p:cxnSp>
          <p:nvCxnSpPr>
            <p:cNvPr id="338" name="_s1028"/>
            <p:cNvCxnSpPr>
              <a:stCxn id="339" idx="0"/>
              <a:endCxn id="340" idx="2"/>
            </p:cNvCxnSpPr>
            <p:nvPr/>
          </p:nvCxnSpPr>
          <p:spPr>
            <a:xfrm flipH="1" flipV="1" rot="5400000">
              <a:off x="2658600" y="3296520"/>
              <a:ext cx="558360" cy="152460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1" name="_s1029"/>
            <p:cNvCxnSpPr>
              <a:stCxn id="342" idx="0"/>
              <a:endCxn id="340" idx="2"/>
            </p:cNvCxnSpPr>
            <p:nvPr/>
          </p:nvCxnSpPr>
          <p:spPr>
            <a:xfrm flipV="1">
              <a:off x="3699720" y="3779640"/>
              <a:ext cx="1800" cy="558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3" name="_s1030"/>
            <p:cNvCxnSpPr>
              <a:stCxn id="344" idx="0"/>
              <a:endCxn id="340" idx="2"/>
            </p:cNvCxnSpPr>
            <p:nvPr/>
          </p:nvCxnSpPr>
          <p:spPr>
            <a:xfrm flipV="1" rot="16200000">
              <a:off x="4183200" y="3295800"/>
              <a:ext cx="558360" cy="152604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5" name="_s1031"/>
            <p:cNvCxnSpPr>
              <a:stCxn id="346" idx="0"/>
              <a:endCxn id="340" idx="2"/>
            </p:cNvCxnSpPr>
            <p:nvPr/>
          </p:nvCxnSpPr>
          <p:spPr>
            <a:xfrm flipV="1" rot="16200000">
              <a:off x="4945320" y="2533680"/>
              <a:ext cx="558360" cy="305028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7" name="_s1032"/>
            <p:cNvCxnSpPr>
              <a:stCxn id="348" idx="0"/>
              <a:endCxn id="340" idx="2"/>
            </p:cNvCxnSpPr>
            <p:nvPr/>
          </p:nvCxnSpPr>
          <p:spPr>
            <a:xfrm flipH="1" flipV="1" rot="5400000">
              <a:off x="1898280" y="2535840"/>
              <a:ext cx="558360" cy="3045960"/>
            </a:xfrm>
            <a:prstGeom prst="bentConnector3">
              <a:avLst>
                <a:gd name="adj1" fmla="val 204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49" name="_s1033"/>
            <p:cNvCxnSpPr>
              <a:stCxn id="350" idx="1"/>
              <a:endCxn id="351" idx="2"/>
            </p:cNvCxnSpPr>
            <p:nvPr/>
          </p:nvCxnSpPr>
          <p:spPr>
            <a:xfrm rot="10800000">
              <a:off x="7619040" y="2105640"/>
              <a:ext cx="21816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52" name="_s1034"/>
            <p:cNvCxnSpPr>
              <a:stCxn id="340" idx="3"/>
              <a:endCxn id="351" idx="2"/>
            </p:cNvCxnSpPr>
            <p:nvPr/>
          </p:nvCxnSpPr>
          <p:spPr>
            <a:xfrm flipV="1">
              <a:off x="4353480" y="2105640"/>
              <a:ext cx="3266640" cy="1116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51" name="_s1035"/>
            <p:cNvSpPr/>
            <p:nvPr/>
          </p:nvSpPr>
          <p:spPr>
            <a:xfrm>
              <a:off x="6966360" y="99072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UBLIC 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_s1036"/>
            <p:cNvSpPr/>
            <p:nvPr/>
          </p:nvSpPr>
          <p:spPr>
            <a:xfrm>
              <a:off x="304704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1037"/>
            <p:cNvSpPr/>
            <p:nvPr/>
          </p:nvSpPr>
          <p:spPr>
            <a:xfrm>
              <a:off x="7837200" y="266436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..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EALTH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1038"/>
            <p:cNvSpPr/>
            <p:nvPr/>
          </p:nvSpPr>
          <p:spPr>
            <a:xfrm>
              <a:off x="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MEDICI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1039"/>
            <p:cNvSpPr/>
            <p:nvPr/>
          </p:nvSpPr>
          <p:spPr>
            <a:xfrm>
              <a:off x="609552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NURS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1040"/>
            <p:cNvSpPr/>
            <p:nvPr/>
          </p:nvSpPr>
          <p:spPr>
            <a:xfrm>
              <a:off x="457128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ERGONOM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_s1041"/>
            <p:cNvSpPr/>
            <p:nvPr/>
          </p:nvSpPr>
          <p:spPr>
            <a:xfrm>
              <a:off x="3047040" y="4338000"/>
              <a:ext cx="130644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SAFE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_s1042"/>
            <p:cNvSpPr/>
            <p:nvPr/>
          </p:nvSpPr>
          <p:spPr>
            <a:xfrm>
              <a:off x="1523880" y="4338000"/>
              <a:ext cx="1305000" cy="11156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OCCUPATIONAL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HYGIEN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act st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p and hard su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hand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knee as a h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4" descr=""/>
          <p:cNvPicPr/>
          <p:nvPr/>
        </p:nvPicPr>
        <p:blipFill>
          <a:blip r:embed="rId4"/>
          <a:stretch/>
        </p:blipFill>
        <p:spPr>
          <a:xfrm>
            <a:off x="1979640" y="4292640"/>
            <a:ext cx="2016000" cy="1803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Figure 3: Contact stress from the table edge"/>
          <p:cNvPicPr/>
          <p:nvPr/>
        </p:nvPicPr>
        <p:blipFill>
          <a:blip r:embed="rId5"/>
          <a:stretch/>
        </p:blipFill>
        <p:spPr>
          <a:xfrm>
            <a:off x="6756480" y="1844640"/>
            <a:ext cx="2387520" cy="1320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"/>
          <p:cNvPicPr/>
          <p:nvPr/>
        </p:nvPicPr>
        <p:blipFill>
          <a:blip r:embed="rId6"/>
          <a:stretch/>
        </p:blipFill>
        <p:spPr>
          <a:xfrm>
            <a:off x="5003640" y="4292640"/>
            <a:ext cx="2016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Arial"/>
              </a:rPr>
              <a:t>فاکتورهای سایکوسوشیال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تقاضای بالای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رضا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همکاران یا سوپروایز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امنیت شغل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گرانی در مورد آینده ک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نتایج مالی بیمار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عدم حمایت از طرف اعضاء خانواده و افسردگ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5064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Arial"/>
                <a:cs typeface="Traffic"/>
              </a:rPr>
              <a:t>آموزش كار با كامپيوتر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وضعيت كارب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ازو و ساق پا دروضعيت عمودي باش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ساعد وران در وضعيت اف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اها روي زمين (يا زير پايي)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‌انحناي به سمت‌داخل پشت‌را محافظت كن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وزن تنه روي‌سطوح باسن وران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به طور مساوي تقسيم شده باش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cs typeface="Traffic"/>
              </a:rPr>
              <a:t>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</a:t>
            </a:r>
            <a:r>
              <a:rPr b="0" lang="fa-IR" sz="10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6" action="ppaction://hlinksldjump"/>
              </a:rPr>
              <a:t>برگشت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505240" y="5864400"/>
            <a:ext cx="105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7"/>
          <a:stretch/>
        </p:blipFill>
        <p:spPr>
          <a:xfrm>
            <a:off x="4772160" y="1676520"/>
            <a:ext cx="379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تنظيم صندل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ارتفاع صندلي رابه صورتي تنظيم كنيد كه ارتفاع آرنج در حالتي كه دستها از طرفين آويزان است با ارتفاع ميز يكسان شو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فضاي آزاد بين لبه جلوي صندلي و پشت زانوبه اندازه يك مشت گره كرده باش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پشتي صندلي طوري تنظيم شودكه گودي كمر را دربر  گي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raffic"/>
              </a:rPr>
              <a:t>در صورتي كه پاها بالاتر از زمين قرار گرفت از زير پايي استفاده نماييد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                                                                  </a:t>
            </a:r>
            <a:r>
              <a:rPr b="0" lang="fa-IR" sz="12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5" action="ppaction://hlinksldjump"/>
              </a:rPr>
              <a:t>برگشت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5" descr="healthily01"/>
          <p:cNvPicPr/>
          <p:nvPr/>
        </p:nvPicPr>
        <p:blipFill>
          <a:blip r:embed="rId6"/>
          <a:stretch/>
        </p:blipFill>
        <p:spPr>
          <a:xfrm>
            <a:off x="4648320" y="1676520"/>
            <a:ext cx="41907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Titr"/>
              </a:rPr>
              <a:t>صفحه كليد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زاويه آرنج بايد بي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10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8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داراي شيب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25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  <a:ea typeface="Traffic"/>
              </a:rPr>
              <a:t> درج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Traffic"/>
              </a:rPr>
              <a:t>تكيه گاه مچ دست داشته باش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2800" spc="-1" strike="noStrike">
                <a:solidFill>
                  <a:srgbClr val="ffffff"/>
                </a:solidFill>
                <a:latin typeface="Arial"/>
                <a:ea typeface="Traffic"/>
              </a:rPr>
              <a:t>	</a:t>
            </a:r>
            <a:r>
              <a:rPr b="0" lang="fa-IR" sz="1400" spc="-1" strike="noStrike" u="sng">
                <a:solidFill>
                  <a:srgbClr val="86d1ec"/>
                </a:solidFill>
                <a:uFillTx/>
                <a:latin typeface="Arial"/>
                <a:cs typeface="Traffic"/>
                <a:hlinkClick r:id="rId4" action="ppaction://hlinksldjump"/>
              </a:rPr>
              <a:t>برگشت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5"/>
          <a:stretch/>
        </p:blipFill>
        <p:spPr>
          <a:xfrm>
            <a:off x="5562720" y="4191120"/>
            <a:ext cx="2371680" cy="2028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"/>
          <p:cNvPicPr/>
          <p:nvPr/>
        </p:nvPicPr>
        <p:blipFill>
          <a:blip r:embed="rId6"/>
          <a:stretch/>
        </p:blipFill>
        <p:spPr>
          <a:xfrm>
            <a:off x="5521320" y="1676520"/>
            <a:ext cx="2460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Ergo32a"/>
          <p:cNvPicPr/>
          <p:nvPr/>
        </p:nvPicPr>
        <p:blipFill>
          <a:blip r:embed="rId1"/>
          <a:stretch/>
        </p:blipFill>
        <p:spPr>
          <a:xfrm>
            <a:off x="4572000" y="4292640"/>
            <a:ext cx="4248000" cy="22320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1" name="Picture 3" descr="Ergo30a"/>
          <p:cNvPicPr/>
          <p:nvPr/>
        </p:nvPicPr>
        <p:blipFill>
          <a:blip r:embed="rId2"/>
          <a:stretch/>
        </p:blipFill>
        <p:spPr>
          <a:xfrm>
            <a:off x="324000" y="1700280"/>
            <a:ext cx="4392360" cy="23907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Ergo32b"/>
          <p:cNvPicPr/>
          <p:nvPr/>
        </p:nvPicPr>
        <p:blipFill>
          <a:blip r:embed="rId1"/>
          <a:stretch/>
        </p:blipFill>
        <p:spPr>
          <a:xfrm>
            <a:off x="900000" y="2349360"/>
            <a:ext cx="3527640" cy="28083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473" name="Picture 3" descr="Ergo30b"/>
          <p:cNvPicPr/>
          <p:nvPr/>
        </p:nvPicPr>
        <p:blipFill>
          <a:blip r:embed="rId2"/>
          <a:stretch/>
        </p:blipFill>
        <p:spPr>
          <a:xfrm>
            <a:off x="4932360" y="2276640"/>
            <a:ext cx="3745080" cy="28796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3886200" cy="27432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4876920" y="2286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"/>
          <p:cNvPicPr/>
          <p:nvPr/>
        </p:nvPicPr>
        <p:blipFill>
          <a:blip r:embed="rId3"/>
          <a:stretch/>
        </p:blipFill>
        <p:spPr>
          <a:xfrm>
            <a:off x="2743200" y="35053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ON OF NIH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LO-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definition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ccupational Health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motion &amp; maintenance of the highest degree of  Physical , Mental &amp; Social well-being of workers in all occupations.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4" descr="the_ear_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rnal o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ed ceru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longed noise expo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otrau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agents &amp;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HEARING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oustic traumatic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H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induced (industrial ototoxica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OTOTOXICA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VY METALS:     Pb, mercury, arsenic, cobalt, lithium, thori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S:     cyanide, benzene, aniline, CS2, CO, CCL4, styrene, tolue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no glycosides, loop diuretics, anti neoplastics, salicylat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وسایل حفاظت فر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 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plu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Arial"/>
              </a:rPr>
              <a:t>برخی از کارگران از گلوله های پنبه ای بجای پلاک گوش استفاده می کند که متاسفانه به هیچ وجه کارآیی ندار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Picture 5" descr="earplugs"/>
          <p:cNvPicPr/>
          <p:nvPr/>
        </p:nvPicPr>
        <p:blipFill>
          <a:blip r:embed="rId2"/>
          <a:stretch/>
        </p:blipFill>
        <p:spPr>
          <a:xfrm>
            <a:off x="0" y="35053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" descr="02_Custom-Plugs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 mu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5" descr="1340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81080"/>
            <a:ext cx="3962520" cy="32767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3M-1450"/>
          <p:cNvPicPr/>
          <p:nvPr/>
        </p:nvPicPr>
        <p:blipFill>
          <a:blip r:embed="rId3"/>
          <a:stretch/>
        </p:blipFill>
        <p:spPr>
          <a:xfrm>
            <a:off x="5105520" y="190512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بهترین وسیله حفاظت شنوایی کدام است؟</a:t>
            </a:r>
            <a:r>
              <a:rPr b="0" lang="fa-IR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6" descr="02_Custom-Plugs_tn"/>
          <p:cNvPicPr/>
          <p:nvPr/>
        </p:nvPicPr>
        <p:blipFill>
          <a:blip r:embed="rId1"/>
          <a:stretch/>
        </p:blipFill>
        <p:spPr>
          <a:xfrm>
            <a:off x="5335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134049"/>
          <p:cNvPicPr/>
          <p:nvPr/>
        </p:nvPicPr>
        <p:blipFill>
          <a:blip r:embed="rId2"/>
          <a:stretch/>
        </p:blipFill>
        <p:spPr>
          <a:xfrm>
            <a:off x="5029200" y="1981080"/>
            <a:ext cx="358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e81808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4" descr="BK01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4449600" y="5105520"/>
            <a:ext cx="469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180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4648320" y="50292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81808"/>
                </a:solidFill>
                <a:latin typeface="Verdana"/>
              </a:rPr>
              <a:t>Thanks a l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ccupational Hygiene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the branch of Occupat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of Anticipating , Recognizing , Evaluating &amp; Contro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hazards in the working enviro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UNCTIONS &amp; ACTIVITIES</a:t>
            </a:r>
            <a:br>
              <a:rPr sz="32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br>
              <a:rPr sz="2400"/>
            </a:b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OCCUPATIONAL MEDIC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ealth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aminatio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of workers &amp; applicam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eparation &amp; arrangement of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rotective &amp; contro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grams for workers exposed to health haz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mployment (preplacement) Health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Health Examination – 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Ionizing Rad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Asb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Merc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No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zardous Exposure 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VARIETY of HEALTH EXA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ll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post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 to  work  Examination – after a long abs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 Fighte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 Personnel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 vehicle operator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( Termination )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Retirement Exa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معاینات بدو استخدام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قبل از شروع به کار انجام شود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احراز دقیق هویت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تعیین دقیق وضعیت خدمت سرباز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ahoma"/>
                <a:cs typeface="Tahoma"/>
              </a:rPr>
              <a:t>شناسایی دقیق شغل فر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شغل فعلی فرد مشخص است؟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آیا در سازمان جابجایی شغلی وجود دار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احتمال تغییر شغل فرد در آینده چقدر است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ffffff"/>
                </a:solidFill>
                <a:latin typeface="Tahoma"/>
                <a:cs typeface="Tahoma"/>
              </a:rPr>
              <a:t>در صورت ارتقا شغلی فرد چه نیازمندی های شغلی در آینده باید دارا باشد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46:36Z</dcterms:created>
  <dc:creator>health</dc:creator>
  <dc:description/>
  <dc:language>en-US</dc:language>
  <cp:lastModifiedBy>it</cp:lastModifiedBy>
  <dcterms:modified xsi:type="dcterms:W3CDTF">2019-12-25T04:04:55Z</dcterms:modified>
  <cp:revision>121</cp:revision>
  <dc:subject/>
  <dc:title>MUSCULOSKELETAL DISORDERS</dc:title>
</cp:coreProperties>
</file>